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0BA0-5852-4E2E-A2F4-091EA8C2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D01B-A2D0-4570-B8BF-E616992A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422E4-FAEC-4F39-9D2E-5DCF039E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3374F-EEA7-4205-BED7-DA3C4212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BF31C-E98E-4B02-B978-7B0BBDDB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FF45C-DF28-4E20-A78A-50DEFA9B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DB970-FD24-4057-88B2-DB1C2238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DF6FF-30B1-4178-8F8D-59AC857A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4AF15-EA14-4D76-BDF0-171E308C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86C26-A5B5-45F3-8FF1-693E7988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C459C-6FC7-4354-8402-4694A98A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80AFB-3912-40A0-8DE1-863CFB97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AC4F-526A-495B-AF93-8EEE3595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DB23E-5C47-4B15-9573-899297CD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BA960-FFFC-48C5-9757-886115BC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AE350-33D9-4579-9751-BCDE5899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96974-7887-4986-8323-0B17F2B6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35C79-7E11-46DE-AE7F-2DBCC1A3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4F4B5-3C8C-482B-8A85-087861CA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CFB7D-8DE1-4F4A-B4BA-E7BB108E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3B628-A69A-40FD-96A5-C642DFD8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D2A97-12D5-454C-9FE0-D59DCFBB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4A627-6B09-4FF8-8115-84D6F262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E3E6-FD63-4656-A93E-BA3C1230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C757F-65E6-411A-8E80-936BC7ED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BEAFE-7BF0-4619-BDF6-3BC0876C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81BC8-378A-463E-AB61-93122CF4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84D05-9AAE-4E0D-9C5E-7492564E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86505-74A7-43A8-9A95-7B986B6B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06A4D-D0C2-45B0-9E1C-BA714CC2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7F1D0-CD57-44B2-857F-80C03358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3625B-E5DA-4355-8ABB-3F51DAA6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999D8-E4F7-49CB-A033-D67B2F98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2DF29-801D-438C-BB8D-8A86D019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BC03-DF74-4300-BC50-077FCC5E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F153C-CDCE-4BFC-B6AB-C4FCE2AA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060F1-7278-4FEB-9C63-53820952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8E424-3B9B-412C-82AC-0E20862E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4E0A7-4F6E-4C20-8E92-B150D151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5FD93-E2C1-4A85-B0B2-E8441778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C687D-4C46-480B-A291-833B7DD5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B6B00-6442-410C-9306-701B2B23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BF95A-53FD-43C6-84A1-1571FB1F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94567-09CC-42B3-B5CB-47297ECE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747BB-6048-4814-BFBD-CB017408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9028-A2DE-4513-9661-8F20FE99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AEC8A-1CAB-461E-A3DE-FBA9877E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6760D-28DB-41F9-BFDD-09AB1D40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94C3E-1273-4AA6-AAD9-9D123B84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E8D1F-84A4-48AA-AFFC-7FC06CBE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AD89B-3193-4ADF-B950-1235C3FB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17D563-DDBA-4FF5-9A8E-E17047F8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4158C-8975-474B-ADCE-F046FE7D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903ADE-6685-4286-82E8-C68A1DE0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07862A-3052-471B-B75D-946C3365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FCE80B-A289-4800-AF62-48EB3C4F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6DF3-629D-440C-A01F-7393B637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A04843-549A-4B9E-AF45-7BB18C3B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A3427B-4BFE-4BFF-B5EB-364C3E18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556656-61CD-4524-9F39-17BE1852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FB0427-6B6E-47E2-8D68-9D7FB0DF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0C5F22-E785-4485-9134-8A956698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B7F6A4-1634-446F-BDFA-B5B0E8B0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0659BA-B2A1-4299-AB0D-208746EC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5F82FB-C559-4E2F-911C-DB2314E84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A99612-CB94-46CF-B5FB-1E8AD800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17BB7D-9FD8-42BD-AC6E-0A62DD73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646F-7CBF-410D-BC79-6A7F4FCF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38033F-B545-485F-9CD2-02898E14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EBC508-9B3E-4286-B60D-87EC554D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74881B-DE81-4F6F-BB65-2F46A802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6CF429-EB02-4AA2-BD8A-2BEBB878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80ED37-505A-43F3-9010-C4EC0CC9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1E5D0-0AA2-4C85-B724-D773FA36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17D28E-ED48-41A4-AF0F-33213BA6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14AE16-E6AF-4629-AC7B-353DAE71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FE74D5-ACB7-4D76-B732-176FB6D6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DCA39C-EE40-4F72-96A2-ECF853C4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4D3A-957D-4595-847F-DDDFA0D4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816677-B585-451E-A249-1700D5B2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F94673-0C38-42DF-AA88-D69E8CF1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2CCFFF-3F8F-4B29-A3BF-CC42D614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0D5E0E-0C41-4AA0-A65F-4464E6B9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0830A2-1FDF-42B1-A0E9-69CDAD03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4C4361-6641-47E9-B7FE-594FD391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DC96AC-9BEF-4E17-A901-5285E246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70896B-1037-4FE3-BC1A-14814EFE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A07688-09F6-4114-BEAF-75716782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B4DBDE-3288-4476-9F53-057C364F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B5DF-A984-4252-95F5-03748078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59E6ED-DE82-403F-A380-C5A71DC7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D3351E-42A8-40D4-B0DC-C86B991C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76614D-B962-440F-BEEA-F45354FA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798A99-9281-4FE7-8676-C6857F2F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883C5F-F537-4914-94E0-8D97FC2C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7A966A-8AD0-4627-8C43-B90FC346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998701-098C-4947-B334-092091DE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0D10DA-4530-47D1-98B0-0EF19EB4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ECBC06-3DCC-465F-AADE-991353D9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F0832E-C41D-4DC5-84B1-F9513EFF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EAD6-651F-46CE-840E-08F627E1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D5AF3B-120D-4639-B38C-80270983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5896D1-319F-4A84-AB2C-4679B6F9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53976F-9655-4CB8-B0B8-89F6F180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3B338E-F7F2-4F04-9FFE-F1F0923A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B57ED7-2A5C-48D1-8308-5DE19DD6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29E7C4-3BB2-46A4-887A-DB0B5ABC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A3F21D-87A6-49BD-B0CC-AFCB6A4F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BAE228-09D8-42AB-8024-A1636EBE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749C5E-54E2-4059-BF9B-DBBA10C2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D56721-FAE8-45AC-9B6F-258E763A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63F8-D4C1-461A-B894-F7507561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3B11-75B3-4750-B809-AEBDD540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61C00B-CB86-45E6-9E6A-E31F92F3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A0E462-1415-413E-B994-7696C3F4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01BE08-6EFD-4C20-8D09-EE45AB0B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B5272B-FC16-4833-B9DD-4B31659C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9D7F07-3912-4D54-AA54-9AF078B3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6D8EE0-78B7-4BD3-BA2C-DC6F4639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FB8170-D3CB-449F-9813-E86AFD3B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2B257A-96AE-4416-8ED0-0B7C526E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AAC4BA-D001-4878-BE30-AFB57E1B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A875F3-E0FC-4D98-BA89-725D75E6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C842-5826-4F41-BE93-96712BDE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8243A1-E870-4D17-B43B-8AF8AA39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EEF48F-C8DF-4FE5-AEEE-E1CE643A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EB3138-CAF1-41E7-BA6E-8B75BDF6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39D8E8-5F6B-42D8-8FD1-7C3F650E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75AD7A-056A-4198-AF05-0C30DF72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AA1525-87AE-41EB-80BD-C6B7170F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EA4EBA-2BEC-448B-B4B1-38788D40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3C0E97-5079-4C30-828C-4608760B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D69D11-0B1F-4A86-9D23-66E3890A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4A0B68-2D9C-4AF3-9AD6-9DD7E972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A44C-67EC-4E5F-A554-3B66BF63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4D7AD2-FACD-40C6-8720-67F9E421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9617AB-93F6-418B-9948-DE796EEB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79541B-714B-4D45-B8BC-A3EAD017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F2B246-1826-4FDF-82AC-0C1DD92B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78DAFB-A509-4BA2-8115-43CF85BF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405C68-89B3-4AD6-BFCC-28AF09DE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0D6604-F5A4-4ED8-8F14-9567CE0A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E40800-E07F-4844-AE39-2A0480C4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9ACC98-57A1-41DA-9FD2-B778BB1A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838818-D840-43B1-A96F-FC2A393A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E32E-EBE4-4678-BFB0-24266F8C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8A3CB1-3AFC-42C8-B055-F9E60206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3A4FA2-8076-494F-AD56-DA840750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F2F9AD-4430-49C8-9F8C-94914CC2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8A8971-A668-4AE6-BF0C-B53363B8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F2F38E-3C4B-4CA1-B7DF-9BC10402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0AB86B-FFD9-495E-B4CC-CF44DE08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031C3A-5CD9-416C-A667-8CA60BEF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0AA1D2-0A9F-4FF1-A923-158AC0D9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104182-6610-4503-9914-D09AD377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F62019-E17C-406E-A18A-30D5AA66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8D64-8FE7-4C08-888C-F57BD773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74CC10-BA12-486F-A438-88688C3A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F79E78-D86E-41CD-BD7E-E58818BC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7E149F-2E0E-45DC-842D-2FECC67C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859D64-566F-4B3D-B0E8-6FE06196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82B08B-3FEE-4318-BDEA-DF6555AF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E77FD4-EB47-41F5-8599-56C40447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30FC8B-7085-4C95-8FA8-B35C14B9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CEE7C3-7CEB-48F9-B362-09C42C93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6060D2-269D-4BC8-83DB-167661AA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0D9F57-F193-4731-9C99-20BB122D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4FA8C-35FE-4892-96BA-739AB43F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C754F3-2315-4FBE-84BE-C04FEC44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C453F9-968D-4FB6-AD5C-EC447B03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7D0EF7-93E7-4802-A704-681045B4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7E4BC-73C6-4A39-814B-51B3BA64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E8792-0B99-4D2E-8775-88EF6F13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28C9F-E124-4D14-A3E9-A9C72414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12FC0-5D26-4DF9-914A-9A5A70E4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CE1C-E3D3-4BC5-BA5B-014E85B0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74DC3-A3F9-491C-8216-FC2E896D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C817E-123E-449D-A7FC-0BEB12CD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0A902-E8F8-438D-889F-19240033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C3BA4-6CC5-4D92-BF04-0FD94720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7FE9A-08EC-4A64-8769-6CD3BB7C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5EE4C-1B62-4F73-B053-DA7142D7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B56E5-9D52-40F0-AC06-9FF6BB64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13F0C-40A1-48DC-9EA7-3173C8DA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48140-1781-47B5-9BC8-E8AFFB74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4B83C-916B-44A9-B160-0F262916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CCF1-32A7-472C-9032-F527E24E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05460-2AEB-43FD-B4C7-137A2E68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65524-B172-43EE-847F-8779E07D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13DA3-1EF8-4103-8CBC-48F1EE16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8F93D-27B9-4DE7-B9C0-B24D633E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BD9BC-6A9B-4E74-A496-786026E6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52CCC-2033-4B2E-B490-391BDC08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A9355-88F3-4505-B209-7F2949CB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E8E70-91F5-48CC-8A74-A3F313BA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37A1D-3268-48E3-BE8C-7A6692BC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0FACF-8B60-4077-B33E-BC4311AA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F0D-4CC5-4ECC-A020-17985559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967B0-D724-4893-B471-97D51150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2094F-53FC-4DCC-8CB9-A2A8F14B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C502E-560E-43CD-B751-DFF46739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C5247-4F10-417E-AE8C-242890A3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CB200-414A-42E2-A95B-609405F6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0ECD4-6605-44D1-A28B-FA286CBD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74B16-E29A-42C3-AB00-6204B390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4528C-389D-40C1-AFE7-CB2DD3D3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2DE8C-8AC0-4B35-B03E-FD5EEE0A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7D1F7-01E6-4358-99D1-AA33252D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47BB-25FE-4B8F-A9D2-940838AA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69BB8-4332-4284-97F4-D1D0EF83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7E875-F3F3-4EC4-834E-A93FF10E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37BF2-1B66-4984-B1CB-43B856AD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57E4C-6ED0-4167-8378-0551C730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651CF-6072-47C2-9C8F-28A2D173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995AD-847E-4632-A4DF-33874F6E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46B19-2153-421F-B0F5-B863D23A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F181B-C851-4BE9-9326-17901BAE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7584D-7271-4D2C-BC04-3D815D98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D3963-9863-4FD5-8E15-20376395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B913-7918-46E5-8377-A8C91E99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DD71F-9E05-440F-85A7-440F417D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88843-87B8-40AF-BA3F-61E7E9B3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21008-C3A0-4345-9439-A606362D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B3EBF-542F-447E-95C3-0FDE2AEAC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30E5F-F0C2-4338-8C02-87FDD2A8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D2877-5377-4E53-9D36-CCA023F8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DD885-FF2B-4F0A-93EE-A7387BC0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086D0-1CC0-4D81-BF1A-C167227C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643AD-43A3-4584-A859-ABAD8EE0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CE9D1-D0EE-4507-A909-61A698AA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8465-C53B-406C-9115-DB09C6B8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7D907-36DD-4727-8B17-E6FDFCEE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43291-460D-4685-A8E3-7F0BA1E4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FB59C-5E7A-4E5A-BF46-783EBD1D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A7DB6-2796-4C58-9EDC-E7D2D2E8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03999-9CE0-4CF0-95B9-721BC1A7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0F8EC-5FA7-4340-AE4A-0D3B4994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612B4-6A4A-4C76-9663-6755B70C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DBF7E-050E-4053-9611-89CBE8EF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4B2F6-4DBB-4101-A7D7-F1EC8886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F61B5-6210-44ED-95CD-5C3C18B0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735F-4628-46A5-9CCA-D2D89842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6B3D6-9425-4F61-9C93-F0285E19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0F010-1646-4A95-9D0D-E7A42163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3E371-B974-4E70-BB94-F6C839F9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242A9-77C1-45F0-9DD4-E843A438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C27DB-7249-48A3-BF4E-E769921E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65A18-DFB1-4BD7-95C5-1F2E48E8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D4F26-0516-42F5-95F9-85A37DF3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08F85-18B0-4B43-97BB-151840D0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FBC16-8B75-41BD-B694-D6847A8D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313E2-DAAD-48A3-B78F-594E9FCF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A662-04A4-42C3-93D5-FA4A09E430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ECA3-4213-441A-8425-A8B25C9695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BFA2-CFCC-4BE9-821E-13F37B7E13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248E-99D2-4912-8763-23393AB28D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3CF6-7B65-40F0-9D36-DBCEB46196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FE0B-82C7-46FE-B1AD-0B09B8AA58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07AE-5C8C-4C49-9D45-9307B2E615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2D42-C246-4F66-B1E1-0684442F26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5A4F-7F6F-486F-A124-0E58E2BBB8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143E-3647-4BBE-9454-DEFB8A3703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F2F3-442F-4356-871D-A56624058A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3485-EFFB-40A6-B057-1D6E1976B1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8485-97A6-4C9F-AD4B-C99B137BCD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825E-5031-4D1C-A816-4B86769907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1462-1BD5-4777-A73B-7AAFF1F16B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5F42-5DCE-4BA4-9B87-0F03714CA9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71A9-E13C-4312-8E84-05AFCA650F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8EFF-C2C1-4A0B-A06D-DF18014E36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4F24-DF8E-479B-994C-B472C8482B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BE43-4B4D-4094-A272-0ECA4E7E35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E600-BCAC-4895-9106-1983DF101D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63AE-897D-421B-9E5F-EFA53910C9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74E3-6BE7-4B73-81BA-777AF0D454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B6DC-2204-4136-8327-66B6F73068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FD6A-06BA-4CEC-859D-A5DCB79560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7882-E3CD-4548-9876-FF0DC53338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8534-635B-4870-8984-729241DA74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EB46-08C8-4760-9A12-E5C51B4A5D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AA80-13D0-4163-A995-D9C7BACFD2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B48D-5F7F-4690-AD82-04B6D2EB74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E075-655C-4DD7-ADC4-C4F642BC07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7409-8145-4C77-BC4C-806ABC0BC1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D2D3-4AE2-4C9B-B3E7-AABBFA60B5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585E-D484-4A82-89A6-A4F6FA1F29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FF0B-4433-4CEC-9096-DC04166BF9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7874-999B-4914-ADDA-144A489462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727A-4116-4E6C-B47D-B1A383ED9E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4C54-2372-468A-B18A-B91E046C22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7C1C-6B34-4AF9-A1D1-0C78C203D0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BC91-4B07-4295-AB94-501F27FC40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1552680" y="2205000"/>
            <a:ext cx="6038640" cy="78120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28679" descr=""/>
          <p:cNvPicPr/>
          <p:nvPr/>
        </p:nvPicPr>
        <p:blipFill>
          <a:blip r:embed="rId2"/>
          <a:stretch/>
        </p:blipFill>
        <p:spPr>
          <a:xfrm>
            <a:off x="2604960" y="3371760"/>
            <a:ext cx="39340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组合 69635"/>
          <p:cNvGrpSpPr/>
          <p:nvPr/>
        </p:nvGrpSpPr>
        <p:grpSpPr>
          <a:xfrm>
            <a:off x="795240" y="44280"/>
            <a:ext cx="8169480" cy="6785280"/>
            <a:chOff x="795240" y="44280"/>
            <a:chExt cx="8169480" cy="6785280"/>
          </a:xfrm>
        </p:grpSpPr>
        <p:pic>
          <p:nvPicPr>
            <p:cNvPr id="1051" name="图片 69633" descr=""/>
            <p:cNvPicPr/>
            <p:nvPr/>
          </p:nvPicPr>
          <p:blipFill>
            <a:blip r:embed="rId1"/>
            <a:stretch/>
          </p:blipFill>
          <p:spPr>
            <a:xfrm>
              <a:off x="795240" y="44280"/>
              <a:ext cx="8169480" cy="590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图片 69634" descr=""/>
            <p:cNvPicPr/>
            <p:nvPr/>
          </p:nvPicPr>
          <p:blipFill>
            <a:blip r:embed="rId2"/>
            <a:stretch/>
          </p:blipFill>
          <p:spPr>
            <a:xfrm>
              <a:off x="1158840" y="5999040"/>
              <a:ext cx="7129440" cy="83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8101080" y="995400"/>
            <a:ext cx="50472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68609" descr=""/>
          <p:cNvPicPr/>
          <p:nvPr/>
        </p:nvPicPr>
        <p:blipFill>
          <a:blip r:embed="rId1"/>
          <a:stretch/>
        </p:blipFill>
        <p:spPr>
          <a:xfrm>
            <a:off x="214200" y="204840"/>
            <a:ext cx="8715600" cy="64483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1116000" y="1239840"/>
            <a:ext cx="1152360" cy="4446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5867280" y="1816200"/>
            <a:ext cx="1152720" cy="4442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8186760" y="5099040"/>
            <a:ext cx="720720" cy="4446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755640" y="5618160"/>
            <a:ext cx="720720" cy="4446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6"/>
          <a:stretch/>
        </p:blipFill>
        <p:spPr>
          <a:xfrm>
            <a:off x="4614840" y="5632560"/>
            <a:ext cx="1036800" cy="44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67585" descr=""/>
          <p:cNvPicPr/>
          <p:nvPr/>
        </p:nvPicPr>
        <p:blipFill>
          <a:blip r:embed="rId1"/>
          <a:stretch/>
        </p:blipFill>
        <p:spPr>
          <a:xfrm>
            <a:off x="257040" y="1619280"/>
            <a:ext cx="8629920" cy="36194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755640" y="4738680"/>
            <a:ext cx="2879640" cy="44460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67587" descr=""/>
          <p:cNvPicPr/>
          <p:nvPr/>
        </p:nvPicPr>
        <p:blipFill>
          <a:blip r:embed="rId3"/>
          <a:stretch/>
        </p:blipFill>
        <p:spPr>
          <a:xfrm>
            <a:off x="2219400" y="2100240"/>
            <a:ext cx="53625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图片 66561" descr=""/>
          <p:cNvPicPr/>
          <p:nvPr/>
        </p:nvPicPr>
        <p:blipFill>
          <a:blip r:embed="rId1"/>
          <a:stretch/>
        </p:blipFill>
        <p:spPr>
          <a:xfrm>
            <a:off x="157320" y="762120"/>
            <a:ext cx="8829360" cy="56196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2"/>
          <a:stretch/>
        </p:blipFill>
        <p:spPr>
          <a:xfrm>
            <a:off x="611280" y="5834160"/>
            <a:ext cx="3384360" cy="44424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66563" descr=""/>
          <p:cNvPicPr/>
          <p:nvPr/>
        </p:nvPicPr>
        <p:blipFill>
          <a:blip r:embed="rId3"/>
          <a:stretch/>
        </p:blipFill>
        <p:spPr>
          <a:xfrm>
            <a:off x="2028960" y="2490840"/>
            <a:ext cx="55432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65537" descr=""/>
          <p:cNvPicPr/>
          <p:nvPr/>
        </p:nvPicPr>
        <p:blipFill>
          <a:blip r:embed="rId1"/>
          <a:stretch/>
        </p:blipFill>
        <p:spPr>
          <a:xfrm>
            <a:off x="219240" y="878040"/>
            <a:ext cx="87055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图片 64513" descr=""/>
          <p:cNvPicPr/>
          <p:nvPr/>
        </p:nvPicPr>
        <p:blipFill>
          <a:blip r:embed="rId1"/>
          <a:stretch/>
        </p:blipFill>
        <p:spPr>
          <a:xfrm>
            <a:off x="928800" y="2619360"/>
            <a:ext cx="7286400" cy="16192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2"/>
          <a:stretch/>
        </p:blipFill>
        <p:spPr>
          <a:xfrm>
            <a:off x="5003640" y="2579760"/>
            <a:ext cx="1008360" cy="4446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3"/>
          <a:stretch/>
        </p:blipFill>
        <p:spPr>
          <a:xfrm>
            <a:off x="5724360" y="3125880"/>
            <a:ext cx="1008360" cy="4442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4"/>
          <a:stretch/>
        </p:blipFill>
        <p:spPr>
          <a:xfrm>
            <a:off x="6516720" y="3687840"/>
            <a:ext cx="10080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60428" descr=""/>
          <p:cNvPicPr/>
          <p:nvPr/>
        </p:nvPicPr>
        <p:blipFill>
          <a:blip r:embed="rId1"/>
          <a:stretch/>
        </p:blipFill>
        <p:spPr>
          <a:xfrm>
            <a:off x="223920" y="1152360"/>
            <a:ext cx="8696160" cy="45532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4211640" y="1892160"/>
            <a:ext cx="936720" cy="3175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5580000" y="1906560"/>
            <a:ext cx="936720" cy="3175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7093080" y="1906560"/>
            <a:ext cx="1224000" cy="3175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1908000" y="2933640"/>
            <a:ext cx="792360" cy="3175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6"/>
          <a:stretch/>
        </p:blipFill>
        <p:spPr>
          <a:xfrm>
            <a:off x="3203640" y="2933640"/>
            <a:ext cx="792000" cy="3175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7"/>
          <a:stretch/>
        </p:blipFill>
        <p:spPr>
          <a:xfrm>
            <a:off x="530280" y="3602160"/>
            <a:ext cx="792000" cy="3175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8"/>
          <a:stretch/>
        </p:blipFill>
        <p:spPr>
          <a:xfrm>
            <a:off x="5580000" y="3625920"/>
            <a:ext cx="576360" cy="3175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9"/>
          <a:stretch/>
        </p:blipFill>
        <p:spPr>
          <a:xfrm>
            <a:off x="8244000" y="4311720"/>
            <a:ext cx="649080" cy="3175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10"/>
          <a:stretch/>
        </p:blipFill>
        <p:spPr>
          <a:xfrm>
            <a:off x="539640" y="4653000"/>
            <a:ext cx="649440" cy="3175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11"/>
          <a:stretch/>
        </p:blipFill>
        <p:spPr>
          <a:xfrm>
            <a:off x="4572000" y="5329080"/>
            <a:ext cx="64944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59410" descr=""/>
          <p:cNvPicPr/>
          <p:nvPr/>
        </p:nvPicPr>
        <p:blipFill>
          <a:blip r:embed="rId1"/>
          <a:stretch/>
        </p:blipFill>
        <p:spPr>
          <a:xfrm>
            <a:off x="185760" y="1790640"/>
            <a:ext cx="8772480" cy="32767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8359920" y="2924280"/>
            <a:ext cx="36036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58373" descr=""/>
          <p:cNvPicPr/>
          <p:nvPr/>
        </p:nvPicPr>
        <p:blipFill>
          <a:blip r:embed="rId1"/>
          <a:stretch/>
        </p:blipFill>
        <p:spPr>
          <a:xfrm>
            <a:off x="181080" y="917640"/>
            <a:ext cx="8781840" cy="52480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8317080" y="1278000"/>
            <a:ext cx="360360" cy="3175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6094440" y="4508640"/>
            <a:ext cx="36036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57352" descr=""/>
          <p:cNvPicPr/>
          <p:nvPr/>
        </p:nvPicPr>
        <p:blipFill>
          <a:blip r:embed="rId1"/>
          <a:stretch/>
        </p:blipFill>
        <p:spPr>
          <a:xfrm>
            <a:off x="185760" y="2048040"/>
            <a:ext cx="8772480" cy="27619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5931000" y="4095720"/>
            <a:ext cx="36036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56324" descr=""/>
          <p:cNvPicPr/>
          <p:nvPr/>
        </p:nvPicPr>
        <p:blipFill>
          <a:blip r:embed="rId1"/>
          <a:stretch/>
        </p:blipFill>
        <p:spPr>
          <a:xfrm>
            <a:off x="219240" y="1014480"/>
            <a:ext cx="8705520" cy="48290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7970760" y="2162160"/>
            <a:ext cx="50508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55300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42674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7970760" y="2408400"/>
            <a:ext cx="505080" cy="44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54276" descr=""/>
          <p:cNvPicPr/>
          <p:nvPr/>
        </p:nvPicPr>
        <p:blipFill>
          <a:blip r:embed="rId1"/>
          <a:stretch/>
        </p:blipFill>
        <p:spPr>
          <a:xfrm>
            <a:off x="237960" y="822240"/>
            <a:ext cx="8668080" cy="54864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8028000" y="1355760"/>
            <a:ext cx="50472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52231" descr=""/>
          <p:cNvPicPr/>
          <p:nvPr/>
        </p:nvPicPr>
        <p:blipFill>
          <a:blip r:embed="rId1"/>
          <a:stretch/>
        </p:blipFill>
        <p:spPr>
          <a:xfrm>
            <a:off x="233280" y="1033560"/>
            <a:ext cx="8677440" cy="47908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8028000" y="4292640"/>
            <a:ext cx="50472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2:55:4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